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8.png" ContentType="image/png"/>
  <Override PartName="/ppt/media/image20.png" ContentType="image/png"/>
  <Override PartName="/ppt/media/image36.jpeg" ContentType="image/jpeg"/>
  <Override PartName="/ppt/media/image6.png" ContentType="image/png"/>
  <Override PartName="/ppt/media/image31.png" ContentType="image/png"/>
  <Override PartName="/ppt/media/image29.png" ContentType="image/png"/>
  <Override PartName="/ppt/media/image11.png" ContentType="image/png"/>
  <Override PartName="/ppt/media/image9.png" ContentType="image/png"/>
  <Override PartName="/ppt/media/image3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jpeg" ContentType="image/jpeg"/>
  <Override PartName="/ppt/media/image37.png" ContentType="image/png"/>
  <Override PartName="/ppt/media/image4.png" ContentType="image/png"/>
  <Override PartName="/ppt/media/image27.png" ContentType="image/png"/>
  <Override PartName="/ppt/media/image30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5.png" ContentType="image/png"/>
  <Override PartName="/ppt/media/image5.png" ContentType="image/png"/>
  <Override PartName="/ppt/media/image7.jpeg" ContentType="image/jpeg"/>
  <Override PartName="/ppt/media/image38.jpeg" ContentType="image/jpeg"/>
  <Override PartName="/ppt/media/image28.png" ContentType="image/png"/>
  <Override PartName="/ppt/media/image10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EB2E2-A9FD-49EA-9D11-8A75162BAF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528F-31BB-401C-AD61-8312033E4CD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27194-B55F-41E0-BF9E-FB438199E4A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C3BDE-5823-4031-B06A-FD9A5EDEBBE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9CD5F-DC0A-4E6A-BB5C-A30336FBC4A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BA11C-FCEF-4EA6-9ED5-ECA01C7E39E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8DD4F-497D-4377-A8D8-A500A3E4B35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FEC03-0DFF-47C0-ABE2-D0EEB6B8C9E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0274-48FD-4C2E-995F-CBECE825473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649A-6CCB-47F3-9529-6BC014C3E08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A8C98-04A0-449D-B969-4383D4C533D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708D-BAF0-4FDE-B68F-6C2EBBF9085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C8BA2-A4BE-4483-B56F-4085C41B7EF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C0926-7A5D-4B78-901F-F8E7B3DC968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2684D-49D5-45D8-BF82-DD3832879AE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3D55-2203-4AD3-AABF-92CF765F9D9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EEE7E-230F-454A-B299-CB8180AC751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D68B-76E3-488A-AFC9-24FB7B52D22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7FC2-5D7E-4D7F-9E0C-6DBA8F4AE91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6EAB-21E7-4720-9D9C-3CAC94ED4E7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69DD-968B-4C8E-B027-11EAB23B50C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9CFD-584F-4622-A11E-A072EAA9857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FB9C-8DCC-4858-A055-C0E263B1629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BA9C-CE75-44B8-B56E-3A644F7F589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ABB6-B838-4EB6-9A0D-0E6CA63557C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90C9-B163-4C0D-B4C4-DD211A52C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A709-B5A2-4B8E-921B-6F9BF6AA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597A-8F89-4E28-A69D-6BD9D03E9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8284-72D7-4037-A16C-260305EFF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EEF6-A71A-4605-9F12-F03441709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A0430-3EFB-40F6-917C-5B0443F23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EB48-094E-46C3-993B-FC60F47C2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1309E-1B9F-44E2-AC9D-0C3F5F1C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B4C5-D393-4E61-92FF-5BA61F29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7E9B-E8AE-435C-B543-A49D3FC8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2445-0C14-492E-9F9B-8C6E623A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4520-FDCF-4EF1-9E9B-9D6C47FF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500CD-4651-48A4-8875-A41F1B59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163A-96FB-449E-B2AB-DCA41A450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A858F-50AB-46F0-B198-EBD6540F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CB5D-9615-4C55-ABA5-44488DD5B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F844C-A308-47A2-94F6-B54B8605A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5C3A-CADC-4A18-A741-750AB4B79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0832-49B6-46A5-B31F-0E5C2927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6FC4-FCC7-40C0-AAB6-EAF8F76F0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A53A-70B5-476E-AA93-E0D39783C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7C78-8591-4BD0-A8BF-BA1584BE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14C2-FDE1-4493-8BAA-6A9D30A31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92A1-DB33-4B52-A9E8-C68386E4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CCA2-D3D3-46C1-B2BF-C99908719F83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F8285-300C-45CC-8CCE-99A88E58A91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To Like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an infinitiv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unconjugated form of the verb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(ends in –ar/-er/-ir)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ook Antiqua"/>
              </a:rPr>
              <a:t>Bailar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ook Antiqua"/>
              </a:rPr>
              <a:t>Cantar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ook Antiqua"/>
              </a:rPr>
              <a:t>Comer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ook Antiqua"/>
              </a:rPr>
              <a:t>Escribir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ook Antiqua"/>
              </a:rPr>
              <a:t>Leer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ook Antiqua"/>
              </a:rPr>
              <a:t>Nadar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ook Antiqua"/>
              </a:rPr>
              <a:t>Patinar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ook Antiqua"/>
              </a:rPr>
              <a:t>Trabajar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ook Antiqua"/>
              </a:rPr>
              <a:t>Correr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4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4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8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9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6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f you want to say “I like to read”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9" name="Diagram 7" descr=""/>
          <p:cNvPicPr/>
          <p:nvPr/>
        </p:nvPicPr>
        <p:blipFill>
          <a:blip r:embed="rId2"/>
          <a:stretch/>
        </p:blipFill>
        <p:spPr>
          <a:xfrm>
            <a:off x="1511280" y="1390680"/>
            <a:ext cx="6127920" cy="40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We like to run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The boys like to eat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Maria likes to skate.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Nos gusta correr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Les gusta comer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Le gusta patinar.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62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 could have also written them like this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nosotros nos gusta correr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los chicos les gusta comer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Maria le gusta patinar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1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0" dur="4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4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Book Antiqua"/>
              </a:rPr>
              <a:t>Me gusta …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2"/>
          <a:stretch/>
        </p:blipFill>
        <p:spPr>
          <a:xfrm>
            <a:off x="1030320" y="1547640"/>
            <a:ext cx="7059600" cy="11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Sí, me gusta bailar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(Yes, I like to dance.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000"/>
                </a:solidFill>
                <a:latin typeface="Book Antiqua"/>
              </a:rPr>
              <a:t>*nota: remember, “no” also means “don’t”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No, </a:t>
            </a:r>
            <a:r>
              <a:rPr b="0" lang="en-US" sz="2600" spc="-1" strike="noStrike">
                <a:solidFill>
                  <a:srgbClr val="ff0000"/>
                </a:solidFill>
                <a:latin typeface="Book Antiqua"/>
              </a:rPr>
              <a:t>no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me gusta bailar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(No, I </a:t>
            </a:r>
            <a:r>
              <a:rPr b="0" lang="en-US" sz="2600" spc="-1" strike="noStrike">
                <a:solidFill>
                  <a:srgbClr val="ff0000"/>
                </a:solidFill>
                <a:latin typeface="Book Antiqua"/>
              </a:rPr>
              <a:t>don’t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like to dance.)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1" name="Rectangle 4" descr=""/>
          <p:cNvPicPr/>
          <p:nvPr/>
        </p:nvPicPr>
        <p:blipFill>
          <a:blip r:embed="rId3"/>
          <a:stretch/>
        </p:blipFill>
        <p:spPr>
          <a:xfrm>
            <a:off x="1657440" y="1109520"/>
            <a:ext cx="596268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8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8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8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8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Title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ell your partner that you like to do the following thing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C:\Users\Crystal\AppData\Local\Microsoft\Windows\Temporary Internet Files\Content.IE5\R6S1M2ZW\MCj04281110000[1].wmf"/>
          <p:cNvPicPr/>
          <p:nvPr/>
        </p:nvPicPr>
        <p:blipFill>
          <a:blip r:embed="rId2"/>
          <a:stretch/>
        </p:blipFill>
        <p:spPr>
          <a:xfrm>
            <a:off x="2286000" y="1905120"/>
            <a:ext cx="47242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48" name="Picture 3" descr="C:\Users\Crystal\AppData\Local\Microsoft\Windows\Temporary Internet Files\Content.IE5\7P9AKK8P\MPj04067120000[1].jpg"/>
          <p:cNvPicPr/>
          <p:nvPr/>
        </p:nvPicPr>
        <p:blipFill>
          <a:blip r:embed="rId2"/>
          <a:stretch/>
        </p:blipFill>
        <p:spPr>
          <a:xfrm>
            <a:off x="1981080" y="1752480"/>
            <a:ext cx="57913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Use </a:t>
            </a:r>
            <a:r>
              <a:rPr b="0" lang="en-US" sz="3600" spc="-1" strike="noStrike">
                <a:solidFill>
                  <a:srgbClr val="0d0d0d"/>
                </a:solidFill>
                <a:latin typeface="Book Antiqua"/>
              </a:rPr>
              <a:t>“gustar” </a:t>
            </a: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to talk about the things you like to do.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jemplo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 like to read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e like to run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1" name="Picture 2" descr="C:\Users\Crystal\AppData\Local\Microsoft\Windows\Temporary Internet Files\Content.IE5\R6S1M2ZW\MPj04395760000[1].jpg"/>
          <p:cNvPicPr/>
          <p:nvPr/>
        </p:nvPicPr>
        <p:blipFill>
          <a:blip r:embed="rId2"/>
          <a:stretch/>
        </p:blipFill>
        <p:spPr>
          <a:xfrm>
            <a:off x="1143000" y="1752480"/>
            <a:ext cx="640080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ell your partner that you don’t like to do the following activities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6" name="Picture 2" descr="C:\Users\Crystal\AppData\Local\Microsoft\Windows\Temporary Internet Files\Content.IE5\GJ9MCPXH\MPj04385230000[1].jpg"/>
          <p:cNvPicPr/>
          <p:nvPr/>
        </p:nvPicPr>
        <p:blipFill>
          <a:blip r:embed="rId2"/>
          <a:stretch/>
        </p:blipFill>
        <p:spPr>
          <a:xfrm>
            <a:off x="1371600" y="1905120"/>
            <a:ext cx="6400800" cy="41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59" name="Picture 2" descr="C:\Users\Crystal\AppData\Local\Microsoft\Windows\Temporary Internet Files\Content.IE5\R6S1M2ZW\MPj04384850000[1].jpg"/>
          <p:cNvPicPr/>
          <p:nvPr/>
        </p:nvPicPr>
        <p:blipFill>
          <a:blip r:embed="rId2"/>
          <a:stretch/>
        </p:blipFill>
        <p:spPr>
          <a:xfrm>
            <a:off x="2057400" y="182880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ll in the blank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Carlos _____ gusta correr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Susana y Juan ______ gusta cantar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mi _____ gusta patinar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99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A nosotros _____ gusta bailar.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Gustar” is different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We don’t use gustar with the usual subject pronoun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6" name="Content Placeholder 4" descr=""/>
          <p:cNvPicPr/>
          <p:nvPr/>
        </p:nvPicPr>
        <p:blipFill>
          <a:blip r:embed="rId2"/>
          <a:stretch/>
        </p:blipFill>
        <p:spPr>
          <a:xfrm>
            <a:off x="371520" y="1596960"/>
            <a:ext cx="832176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98" name="Content Placeholder 3" descr="conjugation chart.jpg"/>
          <p:cNvPicPr/>
          <p:nvPr/>
        </p:nvPicPr>
        <p:blipFill>
          <a:blip r:embed="rId2"/>
          <a:stretch/>
        </p:blipFill>
        <p:spPr>
          <a:xfrm>
            <a:off x="1143000" y="1828800"/>
            <a:ext cx="6858000" cy="4286160"/>
          </a:xfrm>
          <a:prstGeom prst="rect">
            <a:avLst/>
          </a:prstGeom>
          <a:ln w="0">
            <a:noFill/>
          </a:ln>
        </p:spPr>
      </p:pic>
      <p:pic>
        <p:nvPicPr>
          <p:cNvPr id="99" name="Rectangle 4" descr=""/>
          <p:cNvPicPr/>
          <p:nvPr/>
        </p:nvPicPr>
        <p:blipFill>
          <a:blip r:embed="rId3"/>
          <a:stretch/>
        </p:blipFill>
        <p:spPr>
          <a:xfrm>
            <a:off x="1652760" y="1689120"/>
            <a:ext cx="1949400" cy="1200240"/>
          </a:xfrm>
          <a:prstGeom prst="rect">
            <a:avLst/>
          </a:prstGeom>
          <a:ln w="0">
            <a:noFill/>
          </a:ln>
        </p:spPr>
      </p:pic>
      <p:pic>
        <p:nvPicPr>
          <p:cNvPr id="100" name="Rectangle 5" descr=""/>
          <p:cNvPicPr/>
          <p:nvPr/>
        </p:nvPicPr>
        <p:blipFill>
          <a:blip r:embed="rId4"/>
          <a:stretch/>
        </p:blipFill>
        <p:spPr>
          <a:xfrm>
            <a:off x="1884240" y="3060720"/>
            <a:ext cx="1571760" cy="1200240"/>
          </a:xfrm>
          <a:prstGeom prst="rect">
            <a:avLst/>
          </a:prstGeom>
          <a:ln w="0">
            <a:noFill/>
          </a:ln>
        </p:spPr>
      </p:pic>
      <p:pic>
        <p:nvPicPr>
          <p:cNvPr id="101" name="Rectangle 6" descr=""/>
          <p:cNvPicPr/>
          <p:nvPr/>
        </p:nvPicPr>
        <p:blipFill>
          <a:blip r:embed="rId5"/>
          <a:stretch/>
        </p:blipFill>
        <p:spPr>
          <a:xfrm>
            <a:off x="1805040" y="4352760"/>
            <a:ext cx="1571400" cy="1200240"/>
          </a:xfrm>
          <a:prstGeom prst="rect">
            <a:avLst/>
          </a:prstGeom>
          <a:ln w="0">
            <a:noFill/>
          </a:ln>
        </p:spPr>
      </p:pic>
      <p:pic>
        <p:nvPicPr>
          <p:cNvPr id="102" name="Rectangle 7" descr=""/>
          <p:cNvPicPr/>
          <p:nvPr/>
        </p:nvPicPr>
        <p:blipFill>
          <a:blip r:embed="rId6"/>
          <a:stretch/>
        </p:blipFill>
        <p:spPr>
          <a:xfrm>
            <a:off x="4627440" y="1762200"/>
            <a:ext cx="2102040" cy="1200240"/>
          </a:xfrm>
          <a:prstGeom prst="rect">
            <a:avLst/>
          </a:prstGeom>
          <a:ln w="0">
            <a:noFill/>
          </a:ln>
        </p:spPr>
      </p:pic>
      <p:pic>
        <p:nvPicPr>
          <p:cNvPr id="103" name="Rectangle 8" descr=""/>
          <p:cNvPicPr/>
          <p:nvPr/>
        </p:nvPicPr>
        <p:blipFill>
          <a:blip r:embed="rId7"/>
          <a:stretch/>
        </p:blipFill>
        <p:spPr>
          <a:xfrm>
            <a:off x="4780080" y="3060720"/>
            <a:ext cx="1681200" cy="1200240"/>
          </a:xfrm>
          <a:prstGeom prst="rect">
            <a:avLst/>
          </a:prstGeom>
          <a:ln w="0">
            <a:noFill/>
          </a:ln>
        </p:spPr>
      </p:pic>
      <p:pic>
        <p:nvPicPr>
          <p:cNvPr id="104" name="Rectangle 9" descr=""/>
          <p:cNvPicPr/>
          <p:nvPr/>
        </p:nvPicPr>
        <p:blipFill>
          <a:blip r:embed="rId8"/>
          <a:stretch/>
        </p:blipFill>
        <p:spPr>
          <a:xfrm>
            <a:off x="4700520" y="4352760"/>
            <a:ext cx="187632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Me gusta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Te gusta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Le gusta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Nos gusta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Os gusta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Les gusta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I lik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You lik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He/she likes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We lik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Ya’ll lik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They like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Left-Right Arrow 7"/>
          <p:cNvSpPr/>
          <p:nvPr/>
        </p:nvSpPr>
        <p:spPr>
          <a:xfrm>
            <a:off x="3276720" y="1600200"/>
            <a:ext cx="1216080" cy="484200"/>
          </a:xfrm>
          <a:prstGeom prst="leftRightArrow">
            <a:avLst>
              <a:gd name="adj1" fmla="val 50000"/>
              <a:gd name="adj2" fmla="val 49998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eft-Right Arrow 8"/>
          <p:cNvSpPr/>
          <p:nvPr/>
        </p:nvSpPr>
        <p:spPr>
          <a:xfrm>
            <a:off x="3276720" y="2286000"/>
            <a:ext cx="1216080" cy="484200"/>
          </a:xfrm>
          <a:prstGeom prst="leftRightArrow">
            <a:avLst>
              <a:gd name="adj1" fmla="val 50000"/>
              <a:gd name="adj2" fmla="val 49998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Left-Right Arrow 9"/>
          <p:cNvSpPr/>
          <p:nvPr/>
        </p:nvSpPr>
        <p:spPr>
          <a:xfrm>
            <a:off x="3276720" y="2971800"/>
            <a:ext cx="1216080" cy="484200"/>
          </a:xfrm>
          <a:prstGeom prst="leftRightArrow">
            <a:avLst>
              <a:gd name="adj1" fmla="val 50000"/>
              <a:gd name="adj2" fmla="val 49998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eft-Right Arrow 10"/>
          <p:cNvSpPr/>
          <p:nvPr/>
        </p:nvSpPr>
        <p:spPr>
          <a:xfrm>
            <a:off x="3276720" y="3657600"/>
            <a:ext cx="1216080" cy="484200"/>
          </a:xfrm>
          <a:prstGeom prst="leftRightArrow">
            <a:avLst>
              <a:gd name="adj1" fmla="val 50000"/>
              <a:gd name="adj2" fmla="val 49998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Left-Right Arrow 11"/>
          <p:cNvSpPr/>
          <p:nvPr/>
        </p:nvSpPr>
        <p:spPr>
          <a:xfrm>
            <a:off x="3352680" y="4343400"/>
            <a:ext cx="1216080" cy="484200"/>
          </a:xfrm>
          <a:prstGeom prst="leftRightArrow">
            <a:avLst>
              <a:gd name="adj1" fmla="val 50000"/>
              <a:gd name="adj2" fmla="val 49998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eft-Right Arrow 12"/>
          <p:cNvSpPr/>
          <p:nvPr/>
        </p:nvSpPr>
        <p:spPr>
          <a:xfrm>
            <a:off x="3352680" y="4952880"/>
            <a:ext cx="1216080" cy="484200"/>
          </a:xfrm>
          <a:prstGeom prst="leftRightArrow">
            <a:avLst>
              <a:gd name="adj1" fmla="val 50000"/>
              <a:gd name="adj2" fmla="val 49998"/>
            </a:avLst>
          </a:prstGeom>
          <a:solidFill>
            <a:srgbClr val="ceb966"/>
          </a:solidFill>
          <a:ln w="25560">
            <a:solidFill>
              <a:srgbClr val="9787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13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37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4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4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9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08" dur="20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8" dur="10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4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ecause you are using “gustar” pronouns, you don’t necessarily have to put a subject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f you want to put a subject, you have to write it differently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17" name="Content Placeholder 3" descr="conjugation chart.jpg"/>
          <p:cNvPicPr/>
          <p:nvPr/>
        </p:nvPicPr>
        <p:blipFill>
          <a:blip r:embed="rId2"/>
          <a:stretch/>
        </p:blipFill>
        <p:spPr>
          <a:xfrm>
            <a:off x="1066680" y="1752480"/>
            <a:ext cx="6858000" cy="42865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6"/>
          <p:cNvSpPr/>
          <p:nvPr/>
        </p:nvSpPr>
        <p:spPr>
          <a:xfrm>
            <a:off x="1981080" y="320040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en translating “gustar”, it does not get conjugated like most verbs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only form that we will use for Spanish I is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1" name="Rectangle 5" descr=""/>
          <p:cNvPicPr/>
          <p:nvPr/>
        </p:nvPicPr>
        <p:blipFill>
          <a:blip r:embed="rId2"/>
          <a:stretch/>
        </p:blipFill>
        <p:spPr>
          <a:xfrm>
            <a:off x="2938320" y="3243240"/>
            <a:ext cx="254808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01:56:03Z</dcterms:created>
  <dc:creator>Crystal</dc:creator>
  <dc:description/>
  <dc:language>en-US</dc:language>
  <cp:lastModifiedBy>ctaylor-simon</cp:lastModifiedBy>
  <dcterms:modified xsi:type="dcterms:W3CDTF">2009-03-05T19:59:03Z</dcterms:modified>
  <cp:revision>32</cp:revision>
  <dc:subject/>
  <dc:title>Gustar</dc:title>
</cp:coreProperties>
</file>